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641-0044-4CD3-B9D0-AC194BB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15C-1ED5-4180-97E3-CBB72968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E28-E6DF-45CF-8EA6-F1135B5C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C21-00F0-4B34-8E2E-45C13C1D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29A-065B-4404-9465-E0B379BD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B37B-6E3A-4BBD-8CB6-7B305839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3CC-DBA8-4CDF-9F50-205C6171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7A43-389A-4D08-9F05-DAE399FF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5B74-B715-4B1A-87CA-2AB15056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42F-0CCB-49F9-B28C-21053AC4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860A-024C-4224-87F5-582C3DF5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69C-F88B-4BDA-8F39-FA914D48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FB64-7AD5-4751-9DD3-030021F5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7762-E4C0-44E2-9D8D-60B623B2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D15-AA7F-4056-B748-7550ADF6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8879-4FE3-417C-B1FC-D0A3A05B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BB85-EEB2-4133-84D7-556D48FA2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379E5-1231-466F-96D6-0072F461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DF1EFC-479F-4AAD-BFC6-5630B852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CAF95-7770-456A-81AE-98DCBF36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1914A-49C7-467B-8F4D-8BD5538F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3CE90-3725-4632-9CFF-44B11E12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F3E-CBD8-4947-AD63-FC1A436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9D70E-BD54-444C-870D-0BEA1ED2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502B5-5806-4334-B9F4-231F3A2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3BD69-7208-44D4-96C3-9D09273E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AEECE-96B0-4822-BEB6-DCDE6DE0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F4341-F55D-403F-B107-6F90076D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99E27-D500-4B4A-8D11-84B355F1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81DF1-DC62-4FCF-A581-00ABE0C2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AB70E-7B46-4A85-B6F6-FADBA333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8197-6F6C-45D5-B015-B7ABA59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3D14E-3AA9-4F17-8EEA-B92C3663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6F2-AAE9-4DC5-8463-3039630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49220-31F0-4A0E-9704-784C4F3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49509-41C2-442F-9F1B-C4CC5432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6537E-2478-4FC8-B9F6-3E536DD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2197-B85A-429F-8A9C-21CED92B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6416-1E4E-4919-A03F-514A9E0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C5365-D216-4B42-B0B6-8914585A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D1A7-3DC3-43B6-89AF-1C2F6283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83F23-80DA-42A3-85A1-9300D37B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F2CAC-1D35-4713-AC8C-FCF6F543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841E3E-8520-4541-B968-E7FA371C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C86-9B5C-4504-97E8-5D098C91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4B54B-4DC7-4B6B-A8EF-7954C88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903DA-4E5B-4D23-AB40-25CBD288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4E94B-F443-4987-B73B-22FF1763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D26A87-2597-4BF8-BD73-1C760B66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67366-11CA-473C-8B86-C2F4D44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84DCF-35B7-46E4-8CAF-C3C0F13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4C2A8-3DB7-4CF2-8525-1B20C74E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963E03-9DC9-471F-9108-878858A9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E8C626-208F-418C-944C-0ABE43E0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A9FEF-A8E3-418D-BB26-50070691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213D-CED5-4DD3-A871-05744931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5D8C9-BC4F-4D3C-BA3A-38E3B5E4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945E4-4F39-4658-89F3-F5DBFEDD7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A8593-25DE-4532-AD4C-7A4FE39E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44985-4D50-4146-98AB-39E62520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3F1ED3-1DF9-45A2-B650-5D8817B4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94889-2BFC-411C-9A6C-5131DBA3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4A783A-4BB0-47DA-8278-7E64D649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1B104-9906-44EA-AAAC-8D8023E6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AE9F1B-3264-4994-A99A-1BB56007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B2289-C786-47A5-AED9-7A12ACF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E645-4F22-44AD-AF3A-528778E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A28531-0135-4D5D-B76A-22552731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E3CC9-CA32-4975-90AF-26CB8FC6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5A819-9AC5-45F0-BEE8-9C6A7EC8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4FA73-6C57-4E76-8544-1747913B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F8759-DE18-48CA-B1E8-78212A59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54BF1-EC3A-4663-8393-A68FEF05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20ECC-F151-4928-8A23-893B176A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99D0B-142B-4588-8699-564B5518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B135C-3D85-40DE-9816-4AE09F23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2E5AF-9C85-4CC0-A1CE-0468FFD1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D60-4305-4818-8DDF-633927F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5A3B7-DFEB-47A5-9A13-A3C01BCC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5A141-DF9B-4327-BA3F-2E120328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C2CFAE-7C0E-4067-887A-664F3ACD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6B1A4-23C1-4C44-BEAC-4847CC65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60F9E-9E9E-4A71-ADFB-567BB051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608-4E43-4AED-A470-878DD6BB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7FF-AD50-4DA1-A899-4FB46F4E499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8058-98EC-400C-91C0-B4AAFE62241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DE22-7ECE-429E-8E67-66EAE972D3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FE09-DD07-4E18-B045-A92382A6181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2884-76C5-4F6B-8854-705D8F699EA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E8AC-9B1B-48D8-8AF7-C1DDE8E940B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547C-8EEA-41C7-9A33-870D3B1933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entury Schoolbook"/>
              </a:rPr>
              <a:t>INFORMATION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91440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anisha is going to sell popcorn at the school basketball game.  After filling 78 bags with popcorn, she still had 29 empty sacks left.  She started making a table to show how much money she will make selling popcorn at the basketball game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entury Schoolbook"/>
              </a:rPr>
              <a:t>Tanisha told Jan and her family to come to the game and buy popcorn.  The number of people in Jan’s family, including Jan, is 7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990720" y="2209680"/>
          <a:ext cx="6095880" cy="2560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umber of Ba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5 c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MONDAY</a:t>
            </a: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	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Tanisha sells 5 bags of popcorn, how much money will she mak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TUES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she sold 52 bags of popcorn, how many bags of popcorn did she have lef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WEDNES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1430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ow many empty sacks did Tanisha have before she filled 78 sacks with popcor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THURSDAY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9907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 1 bag of popcorn is enough for 2 people, how many bags will Jan need to buy for the people in her famil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FRIDAY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9140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endra gave Tanisha 3 quarters for 4 bags of popcorn.  How much change will she receiv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7T14:36:25Z</dcterms:created>
  <dc:creator>127partidak</dc:creator>
  <dc:description/>
  <dc:language>en-US</dc:language>
  <cp:lastModifiedBy>127partidak</cp:lastModifiedBy>
  <dcterms:modified xsi:type="dcterms:W3CDTF">2011-09-09T14:12:36Z</dcterms:modified>
  <cp:revision>40</cp:revision>
  <dc:subject/>
  <dc:title>Information</dc:title>
</cp:coreProperties>
</file>